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E11A-599D-4785-A661-3683E72A51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2E35-1F44-4B71-9D33-F0AC84B413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2248-D8FC-4FF1-B0CE-4321562F0D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3143-3981-4E16-BCA3-E755F7CCED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8BE5-B495-48CC-8758-94E934F410A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1068-F8D0-4954-BED9-6F35466EB02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3AAE-BA9A-49F2-8870-DCFAAAA37C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FCF9-74DB-438B-A3A0-75A25D9413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88A4-E1EA-4324-AA4C-2EDA415A8A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05FE-DB58-4DE6-98F1-B16E468223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3030-C458-474A-B30D-C7AD64822A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5132-13B4-4EEC-B511-ADA3D9A342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DB7-0924-4E50-8CF1-BBBD2E7E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AE6-21A2-4FDA-AAFD-4935C2ED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7CB-9C38-4351-8BB8-8AFE010C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E29A-E1BC-42E7-B00B-AE142FFD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112-8C5D-4204-B9DA-EE43D800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1B8-A390-4BF2-8E16-37D03B6E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88F-B0D8-4696-B217-1057F768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711-9DE4-4A93-927E-E74CAB22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8D0-47A5-4685-91CD-85D6B481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FA1-3CE4-4537-B81D-170785AD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1AE-E412-4722-88A8-C0752221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3AF-BCE2-48C0-9958-DE673316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7A30-7851-4AB0-84F2-751D4701EE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didas Pro-Exportadoras para hacer frente a la crisis ex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mpliación y fortalecimiento de las Oficinas Comerciales en el exterior, como herramienta de apoyo promocional y de inteligencia comercial (incremento de presupues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isiones comerciales a nuevos merc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alizar eventos en embajadas, similar a Perú Mucho Gusto, presentando imagen paí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Lanzar nuevas Representaciones en Destino de PROMPERU (esquema de Antenas comerciales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Elaborar información y material de promoción comercial (catálogos, CDs, Brochures, muestras, etc) para su envío al ex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Desarrollo de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te desaceleración de la economía, de un crecimiento promedio de 5% entre el 2005 y 2008, a un 0.9% estimado en el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isminución del intercambio comercial y un mayor riesgo de proteccionismo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ducción del flujo de capitales a países en desarrollo, conllevando a menores inver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Quiebra de importantes bancos y aseguradoras, así como fuertes caídas en la bols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lan Anti-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obierno a través del MINCETUR, en coordinación con otras instituciones públicas, viene desarrollando medidas para permitir que el sector exportador mantenga su dinamismo a pesar de la crisis económica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s medidas se encuentran centradas en diversos aspectos tales como  la Facilitación de Comerco y el Desarrollo de nuevos mer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ificación del Programa SEPYMEX - Seguro de Crédito a la Expor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iminación del límite máximo de exportaciones por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mpliación de la cobertura máxima por deudor hasta por USD 3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ducción del límite mínimo de la Línea Anual de Cobertura contratada con los bancos hasta por USD 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Las modificaciones ya han sido implementadas (RM N° 048-2009-EF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ción del Fondo de Garantía Empresarial (FO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ndo por S/.300 millones para garantizar el 50% de financiamientos de Capital de Trabajo y Activo F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uede ser empleado no sólo para operaciones de comercio exterior sino para operacion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operativa es similar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esentó Decreto de Urgencia, pendiente de aprobación por parte del ME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o de Crédito Post Emba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grama complementario al SEPYMEX ya que coberturaría los créditos post embarque, lo cual ha sido solicitado por los bancos para que puedan ofrecer un mayor número de crédito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oberturaría riesgo comercial y político ( facilitaría exportaciones a países como Venezuela y del medio or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endría condiciones similares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o de una Rueda de Bolsa para la Negociación de Futuros de Moned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á acceder a instrumentos que mitigan el riesgo de las variaciones en el Tipo d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e negociarían Futuros de Tipo de Cambio, los cuales son similares a los Forward pero son productos estanda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del carnet 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cumento internacional que facilita los trámites de admisión temporal (ideal para empresas que participan en feri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ás de 60 países se encuentran afiliados a este siste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puesta ha sido presentada al MEF para la emisión de un Decreto Supre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ción de la Ventanilla Única de Comercio Ext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lataforma informática que servirá para la interconexión entre 8 instituciones encargadas de la emisión de permisos para la exportación / importación de mercancías y los exportadores e importa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ctualmente se encuentra en la etapa de construcción de la plataforma tecnológica del componente de mercancías restringidas y se está diseñando el modelo general del componente portu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0:40:53Z</dcterms:created>
  <dc:creator>pmonzon</dc:creator>
  <dc:description/>
  <dc:language>en-US</dc:language>
  <cp:lastModifiedBy>METALHEAD</cp:lastModifiedBy>
  <dcterms:modified xsi:type="dcterms:W3CDTF">2009-01-27T00:04:24Z</dcterms:modified>
  <cp:revision>282</cp:revision>
  <dc:subject/>
  <dc:title>Facilitación &amp; Logística</dc:title>
</cp:coreProperties>
</file>